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F782-3C56-4015-8FE7-14F1066A8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B053-324D-41B2-B5DC-2F4CB823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494F-F8D9-4CAA-8A10-715E064D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A5B0-EBB2-40AA-A36C-39943A3DE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1D5C-6080-40D3-A95A-5607F120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BE21-23A1-4C41-BA53-A9A58DFA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B9D5-9358-452D-93D9-3299EC8E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04D3-E7CC-47A6-B2DE-A7C86A7A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AD2C-AB9A-4A11-B84A-31641F4C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5BD5-FC82-4107-820C-63AE35B5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BE37-24BD-4BCF-8B4F-1A876947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6260-59ED-485C-85CE-B3D38206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B943-63AC-4561-8758-6562E15E6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 Clase 7IM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24 de marzo del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36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continuamos el repaso para el examen de maña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lete with the correct forms of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juga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teresar.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Be sure to use the correct pronoun with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teres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_ con muchos equipos porque ____ interes____ los depor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 no ________ con el equipo porque no ____ interes____ el depor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no ________ baloncesto porque no _____ interes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I- </a:t>
            </a: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Vocabula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743200" y="2438280"/>
            <a:ext cx="1905120" cy="865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800600" y="16765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2057400"/>
            <a:ext cx="1600200" cy="1565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0" y="4572000"/>
            <a:ext cx="2133720" cy="1623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2209680" y="4572000"/>
            <a:ext cx="1492200" cy="1609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3886200" y="4800600"/>
            <a:ext cx="1676520" cy="1494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943600" y="4800600"/>
            <a:ext cx="1244520" cy="1467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7391520" y="4648320"/>
            <a:ext cx="1531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320" y="2636640"/>
            <a:ext cx="906768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II- </a:t>
            </a:r>
            <a:r>
              <a:rPr b="1" lang="es-ES_tradnl" sz="3200" spc="-1" strike="noStrike" u="sng">
                <a:solidFill>
                  <a:srgbClr val="008000"/>
                </a:solidFill>
                <a:uFillTx/>
                <a:latin typeface="Arial"/>
              </a:rPr>
              <a:t>Si o 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un partido de futbol dos equipos jue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clase es interesante y me abur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espectador lanza el balón y mete un g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y un pícher, me gusta jugar balonces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el portero bloquea el balón, no entra en la porterí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2309760" cy="2514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114800" y="228600"/>
            <a:ext cx="2314440" cy="1971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781680" y="277920"/>
            <a:ext cx="1981440" cy="14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6320" y="759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III- </a:t>
            </a:r>
            <a:r>
              <a:rPr b="1" lang="es-ES_tradnl" sz="3200" spc="-1" strike="noStrike" u="sng">
                <a:solidFill>
                  <a:srgbClr val="008000"/>
                </a:solidFill>
                <a:uFillTx/>
                <a:latin typeface="Arial"/>
              </a:rPr>
              <a:t>Verb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e with the correct form of the ver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ena ____________ a jugar a las dos. (empez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 ________ en el equipo de futbol. (jug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sotros _________ mirar el juego de baloncesto. (prefer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equipos no _________ perder. (quer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o, un equipo siempre ________. (per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ú ________ a casa para mirar el partido en la tele. (vol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21:29:51Z</dcterms:created>
  <dc:creator>Helen Zumaeta</dc:creator>
  <dc:description/>
  <dc:language>en-US</dc:language>
  <cp:lastModifiedBy>Helen Zumaeta</cp:lastModifiedBy>
  <dcterms:modified xsi:type="dcterms:W3CDTF">2011-03-24T15:06:23Z</dcterms:modified>
  <cp:revision>3</cp:revision>
  <dc:subject/>
  <dc:title>Me llamo ________  Clase 7IM La fecha es el 24 de marzo del 2011</dc:title>
</cp:coreProperties>
</file>